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38CDB-FB87-44DE-9738-DFBD789F0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DFE7-1B06-440B-8951-35177D31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42985-4950-40DC-A319-53E0C9BBF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91470-A395-4807-AD75-70C7710FF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76F94-58FF-480E-992B-4B76F49FD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EB946-7FBD-4895-AB29-9973F1BD2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62DF6-C093-4CEC-85B0-64EF1C538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3F561-6931-44ED-9EAE-C3B5EB6D6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F6748-BC11-4303-B3D8-D2DF6FD8F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C989D-AD17-467D-96B6-7101A6B7B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EE806-31A8-4A9C-A9C5-B3F5AD720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4C18E-436A-49B2-81AC-22C664F65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B9FB4-8D8A-4A75-89CE-246CDD989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78308-A1AF-4C24-B5FC-683CAC0FF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6FD1A-E934-4E40-8C5E-DB2E509CE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D3CFA-FDED-4B23-8491-59F2BA2BB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EE1A8-453E-4464-80CF-FCACF75B8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5C9B48-36A9-4976-BB2B-6585A54BE7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C0266-BC75-4273-9ACE-692E199D7D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4CBB2-2829-423C-B1EB-F9D5446C5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CED2C-2FDA-4AD6-AE43-BC8399EFE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2065A-4F0F-478E-8CB3-31CABDE97E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C903E-F2D7-4177-BAE1-45DF634C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0BC59-4D59-48E8-B0A9-0262B531C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55709-1DB1-4E67-94BB-6A6A7DD2E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BF7A0-7C3A-4109-B28C-80FDF1FEE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34526-F1A0-4348-A974-838C1189C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42E1A-DD43-46CC-BB6D-4188A9822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34CD73-4E2B-411F-BEBD-2042EFA682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1ED8C8-ABBA-40BB-B987-97DFCE8B22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270F37-F9A1-4BEE-B377-711E970AA1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CAD9DC-622F-46DD-AB33-CBE9C94A2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1EA10-EF25-4F5E-98FD-2086F4FF61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C88B5-FD4E-4ACF-9B61-1D30B4DC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561A2-7A07-48AE-88EC-DD9DD5E84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F3560-F3A8-49F8-8110-A962A45F7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C16AB-9890-4DA7-96BD-1F4E3DB917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6E634-7FF9-4512-89A8-1C1932161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5FE315-D466-45BC-8E1B-18E32C9BF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B6058-F2A6-48E9-B022-2CD283A95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018F4-4FE9-49B2-97D3-D9B942327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D50C00-2772-495B-9C10-919546BD58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1A177-715B-4EBF-8AF5-7F9C4F2FC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1917E-8BB1-4BBA-880F-915AAD177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93448-4265-42C2-87F6-7401C81EB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365B9-C78B-4CCF-B1D2-AD4A77B69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00424-2FDC-40ED-8977-384E9FAF9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2580B-7D3E-4B44-A82C-1B9BBE1FE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846725-F6C1-410C-8913-92DEF3BB0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2FCE06-825C-4F27-8EF9-E59C7B17C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42357-BFF6-4271-A3FF-FB3A8DC4F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97AD8-9777-400A-A283-507B2683C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2CEF0-19FB-4EFA-8216-E85E4A8C6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74F14-3225-4D34-ADCD-B9EF16CCE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B21FA0-547B-4FEF-A91C-6903BF946C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E82FC-5B5E-423E-A543-00D7A9B1F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DE752B-B31D-49CF-B1E2-E104230439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8BFA6B-5532-4B9D-90B8-8B0524BD9B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05A267-BAE8-4BA8-AB9A-2D12BD13B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653C62-F87B-42EA-B1A5-69F11AD5E1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B1A996-5D0A-474F-AA0A-8D3EB334F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A13055-7DC7-49D5-8456-DFF595A955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F43A61-36AD-46EB-B18D-AFCA01441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97D60-DA7A-4C37-96F6-BE514DE50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14129B-D296-4656-A86B-36188C1BB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82566-D1BE-40B5-A776-76E0F5AE8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DCEC-EBD5-46EE-869E-B468E6477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6384E-88F8-46EA-88FF-4E480D7BC5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BBA0FB-FBD3-4029-A42D-A61D1E483D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580EC5-2C67-4582-9F64-43A0EF71C5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2B0FC-B5DC-4EBD-8C1F-F4215B2665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282A98-32DA-4B57-967D-73EF3CCD42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78B995-1706-4D90-B71D-2772AFE3CB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3096AB-1382-44B0-BB20-D4AA6F9838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0E6D40-4343-4B8D-A331-3C05AB7DF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360275-419A-45F7-BA5D-819E67C96E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285E67-BBE4-4CBD-950E-FC7372939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57BC-2D20-49E9-A5BF-44016C705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B24FF-C297-4598-A95E-9C2D95D7E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8CA82F-298A-4F71-B14B-15DE56FA2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5F11C-727B-405D-986C-DC7DED196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25D537-9995-4C7E-BF80-21C96EE55A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22F9A2-5D55-49AD-B8CE-FCAB6E5A16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2CE18A-368B-4D4D-8BF4-DF1A4041F7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1F60A3-9C80-45D3-9F9B-24CFE0DBD2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B9E7F-09DB-4CAC-BF04-7FCA08ADB9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53F0B-423B-40A3-BCD3-DAFEC8ADF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2D1A42-C3D8-4064-9C87-1A73974B5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72B2-1DCD-4D95-B50B-05E54E027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F218A1-144F-498B-8E96-6634CB3BDB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357570-F58C-48D1-9890-27F076A26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71B31-2195-47C8-8BF5-835217097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CA54E-7361-4336-8F42-D4AF2C3D0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01EA9-0AEF-4B96-8599-982DFDA9CD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AEB17D-4F10-46BD-9E06-139A7C0C7D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62348C-A520-41B2-B161-BAFB22B7FE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38EE-880B-4F09-8D48-366CBFC5D1FE}"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2D74-B428-4B4D-9C09-ACAD64593A3F}"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68A8-DFB5-4F73-8F9D-941FD5CE60BA}"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0AB8-EC6D-46CB-B7CF-330A653D7B74}"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B202-0DD6-4117-ACA0-6F3ABF7B669B}"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0A15-D9E7-4FDE-A2CA-4FAE0C7DB541}"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4D96-F2BD-4EF2-8B1A-ABBF929FA529}"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836E-F06E-4D47-9DD8-2314B11A7C01}"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512640"/>
            <a:ext cx="8717040" cy="41148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c000"/>
                </a:solidFill>
                <a:latin typeface="Kahootz Burnum Medium"/>
              </a:rPr>
              <a:t>B</a:t>
            </a:r>
            <a:r>
              <a:rPr b="0" lang="en-AU" sz="3600" spc="-1" strike="noStrike">
                <a:solidFill>
                  <a:srgbClr val="ff0000"/>
                </a:solidFill>
                <a:latin typeface="Kahootz Burnum Medium"/>
              </a:rPr>
              <a:t>y</a:t>
            </a:r>
            <a:r>
              <a:rPr b="0" lang="en-AU" sz="3600" spc="-1" strike="noStrike">
                <a:solidFill>
                  <a:srgbClr val="000000"/>
                </a:solidFill>
                <a:latin typeface="Kahootz Burnum Medium"/>
              </a:rPr>
              <a:t> </a:t>
            </a:r>
            <a:r>
              <a:rPr b="0" lang="en-AU" sz="3600" spc="-1" strike="noStrike">
                <a:solidFill>
                  <a:srgbClr val="c00000"/>
                </a:solidFill>
                <a:latin typeface="Kahootz Burnum Medium"/>
              </a:rPr>
              <a:t>C</a:t>
            </a:r>
            <a:r>
              <a:rPr b="0" lang="en-AU" sz="3600" spc="-1" strike="noStrike">
                <a:solidFill>
                  <a:srgbClr val="7030a0"/>
                </a:solidFill>
                <a:latin typeface="Kahootz Burnum Medium"/>
              </a:rPr>
              <a:t>h</a:t>
            </a:r>
            <a:r>
              <a:rPr b="0" lang="en-AU" sz="3600" spc="-1" strike="noStrike">
                <a:solidFill>
                  <a:srgbClr val="002060"/>
                </a:solidFill>
                <a:latin typeface="Kahootz Burnum Medium"/>
              </a:rPr>
              <a:t>l</a:t>
            </a:r>
            <a:r>
              <a:rPr b="0" lang="en-AU" sz="3600" spc="-1" strike="noStrike">
                <a:solidFill>
                  <a:srgbClr val="0070c0"/>
                </a:solidFill>
                <a:latin typeface="Kahootz Burnum Medium"/>
              </a:rPr>
              <a:t>o</a:t>
            </a:r>
            <a:r>
              <a:rPr b="0" lang="en-AU" sz="3600" spc="-1" strike="noStrike">
                <a:solidFill>
                  <a:srgbClr val="00b0f0"/>
                </a:solidFill>
                <a:latin typeface="Kahootz Burnum Medium"/>
              </a:rPr>
              <a:t>e</a:t>
            </a:r>
            <a:r>
              <a:rPr b="0" lang="en-AU" sz="3600" spc="-1" strike="noStrike">
                <a:solidFill>
                  <a:srgbClr val="000000"/>
                </a:solidFill>
                <a:latin typeface="Kahootz Burnum Medium"/>
              </a:rPr>
              <a:t> </a:t>
            </a:r>
            <a:r>
              <a:rPr b="0" lang="en-AU" sz="3600" spc="-1" strike="noStrike">
                <a:solidFill>
                  <a:srgbClr val="00b050"/>
                </a:solidFill>
                <a:latin typeface="Kahootz Burnum Medium"/>
              </a:rPr>
              <a:t>B</a:t>
            </a:r>
            <a:r>
              <a:rPr b="0" lang="en-AU" sz="3600" spc="-1" strike="noStrike">
                <a:solidFill>
                  <a:srgbClr val="92d050"/>
                </a:solidFill>
                <a:latin typeface="Kahootz Burnum Medium"/>
              </a:rPr>
              <a:t>e</a:t>
            </a:r>
            <a:r>
              <a:rPr b="0" lang="en-AU" sz="3600" spc="-1" strike="noStrike">
                <a:solidFill>
                  <a:srgbClr val="ffff00"/>
                </a:solidFill>
                <a:latin typeface="Kahootz Burnum Medium"/>
              </a:rPr>
              <a:t>a</a:t>
            </a:r>
            <a:r>
              <a:rPr b="0" lang="en-AU" sz="3600" spc="-1" strike="noStrike">
                <a:solidFill>
                  <a:srgbClr val="ffc000"/>
                </a:solidFill>
                <a:latin typeface="Kahootz Burnum Medium"/>
              </a:rPr>
              <a:t>r</a:t>
            </a:r>
            <a:r>
              <a:rPr b="0" lang="en-AU" sz="3600" spc="-1" strike="noStrike">
                <a:solidFill>
                  <a:srgbClr val="ff0000"/>
                </a:solidFill>
                <a:latin typeface="Kahootz Burnum Medium"/>
              </a:rPr>
              <a:t>d</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28760" y="15001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r>
              <a:rPr b="0" lang="en-AU" sz="2700" spc="-1" strike="noStrike">
                <a:solidFill>
                  <a:srgbClr val="92d050"/>
                </a:solidFill>
                <a:latin typeface="Lucida Sans Unicode"/>
              </a:rPr>
              <a:t>AS THE BIGGEST TOWER IN THE SOUTHERN HEMISPHERE, THE EUREKA SKYDCK IS AN AMAZING 92 STORIES HIGH, IT OPENING TOOK THE RIALTO TOWERS OUT OF IT’S PLACE AS IT HAD BEEN THE BIGGEST AND BEST WITH 60 FLOORS, THE DIFFERENCE BETWEEN THE TOWERS IS EVEN HIGHER THAN YOU MIGHT THINK...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r>
              <a:rPr b="0" lang="en-AU" sz="2700" spc="-1" strike="noStrike">
                <a:solidFill>
                  <a:srgbClr val="ffff00"/>
                </a:solidFill>
                <a:latin typeface="Lucida Sans Unicode"/>
              </a:rPr>
              <a:t>THE DIFFERENCE IS 32 STORI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225360" y="128520"/>
            <a:ext cx="880920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28760" y="178596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c000"/>
                </a:solidFill>
                <a:latin typeface="Lucida Sans Unicode"/>
              </a:rPr>
              <a:t>  </a:t>
            </a:r>
            <a:r>
              <a:rPr b="0" lang="en-AU" sz="2700" spc="-1" strike="noStrike">
                <a:solidFill>
                  <a:srgbClr val="ffc000"/>
                </a:solidFill>
                <a:latin typeface="Lucida Sans Unicode"/>
              </a:rPr>
              <a:t>THE HEIGHT OF THE MCG LIGHT TOWERS IS 75M, THEY TOWER OVER THE MELBOURNE CRICKET GROUNDS, THEY ARE WHITE AND NUMBERED AROUND THE GROUNDS.</a:t>
            </a:r>
            <a:endParaRPr b="0" lang="en-US" sz="2700" spc="-1" strike="noStrike">
              <a:solidFill>
                <a:srgbClr val="000000"/>
              </a:solidFill>
              <a:latin typeface="Lucida Sans Unicode"/>
            </a:endParaRPr>
          </a:p>
        </p:txBody>
      </p:sp>
      <p:pic>
        <p:nvPicPr>
          <p:cNvPr id="375" name="Title 1" descr=""/>
          <p:cNvPicPr/>
          <p:nvPr/>
        </p:nvPicPr>
        <p:blipFill>
          <a:blip r:embed="rId1"/>
          <a:stretch/>
        </p:blipFill>
        <p:spPr>
          <a:xfrm>
            <a:off x="55440" y="133200"/>
            <a:ext cx="8759880" cy="13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endParaRPr b="0" lang="en-US" sz="2700" spc="-1" strike="noStrike">
              <a:solidFill>
                <a:srgbClr val="000000"/>
              </a:solidFill>
              <a:latin typeface="Lucida Sans Unicode"/>
            </a:endParaRPr>
          </a:p>
        </p:txBody>
      </p:sp>
      <p:pic>
        <p:nvPicPr>
          <p:cNvPr id="377" name="Title 1" descr=""/>
          <p:cNvPicPr/>
          <p:nvPr/>
        </p:nvPicPr>
        <p:blipFill>
          <a:blip r:embed="rId1"/>
          <a:stretch/>
        </p:blipFill>
        <p:spPr>
          <a:xfrm>
            <a:off x="407880" y="139680"/>
            <a:ext cx="8626680" cy="1901880"/>
          </a:xfrm>
          <a:prstGeom prst="rect">
            <a:avLst/>
          </a:prstGeom>
          <a:ln w="0">
            <a:noFill/>
          </a:ln>
        </p:spPr>
      </p:pic>
      <p:graphicFrame>
        <p:nvGraphicFramePr>
          <p:cNvPr id="378" name=""/>
          <p:cNvGraphicFramePr/>
          <p:nvPr/>
        </p:nvGraphicFramePr>
        <p:xfrm>
          <a:off x="1428840" y="2143080"/>
          <a:ext cx="6095880" cy="2590920"/>
        </p:xfrm>
        <a:graphic>
          <a:graphicData uri="http://schemas.openxmlformats.org/drawingml/2006/table">
            <a:tbl>
              <a:tblPr/>
              <a:tblGrid>
                <a:gridCol w="3047760"/>
                <a:gridCol w="3048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3c4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Price per ki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3c4a"/>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Calama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ce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4.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ced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Chilli (Gre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3.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Ora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ce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ced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Capsic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2.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Cher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ce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6.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ced0"/>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Tomato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1.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8e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457200" y="1481040"/>
          <a:ext cx="8229600" cy="3337200"/>
        </p:xfrm>
        <a:graphic>
          <a:graphicData uri="http://schemas.openxmlformats.org/drawingml/2006/table">
            <a:tbl>
              <a:tblPr/>
              <a:tblGrid>
                <a:gridCol w="4114800"/>
                <a:gridCol w="4114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CAPITAL C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Lucida Sans Unicode"/>
                        </a:rPr>
                        <a:t>POPU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PER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602,5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SYDNE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399,7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MELBOUR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892,4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BRISB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945,6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DARW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120,6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ADELA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172,1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HOB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209,2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Lucida Sans Unicode"/>
                        </a:rPr>
                        <a:t>345,2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bl>
          </a:graphicData>
        </a:graphic>
      </p:graphicFrame>
      <p:pic>
        <p:nvPicPr>
          <p:cNvPr id="380" name="Title 1"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r>
              <a:rPr b="0" lang="en-AU" sz="2700" spc="-1" strike="noStrike">
                <a:solidFill>
                  <a:srgbClr val="1faecd"/>
                </a:solidFill>
                <a:latin typeface="Lucida Sans Unicode"/>
              </a:rPr>
              <a:t>THERE ARE HEAPS OF TIMETABLES AROUND THE CITY, BELOW ARE A FEW EXAMPLES OF WHAT WE MIGHT SE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AU" sz="2700" spc="-1" strike="noStrike">
                <a:solidFill>
                  <a:srgbClr val="ffff00"/>
                </a:solidFill>
                <a:latin typeface="Lucida Sans Unicode"/>
              </a:rPr>
              <a:t>TRAINS, TRAMS, BUSES, AND SOMETIMES CONCERT TIMETABLES, AND IF YOU ARE LUCKY, YOU MIGHT EVEN FIND A DAILY TIMETABLE, DAILY TIMETABLES ARE A SHEDUALE THROUGHOUT THE DA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b050"/>
                </a:solidFill>
                <a:latin typeface="Lucida Sans Unicode"/>
              </a:rPr>
              <a:t>  </a:t>
            </a:r>
            <a:r>
              <a:rPr b="1" lang="en-US" sz="2700" spc="-1" strike="noStrike">
                <a:solidFill>
                  <a:srgbClr val="00b050"/>
                </a:solidFill>
                <a:latin typeface="Lucida Sans Unicode"/>
              </a:rPr>
              <a:t>8,556,315</a:t>
            </a:r>
            <a:r>
              <a:rPr b="0" lang="en-US" sz="2700" spc="-1" strike="noStrike">
                <a:solidFill>
                  <a:srgbClr val="00b050"/>
                </a:solidFill>
                <a:latin typeface="Lucida Sans Unicode"/>
              </a:rPr>
              <a:t> PEOPLE WHO FOUGHT IN THE WAR, DIED. </a:t>
            </a:r>
            <a:br>
              <a:rPr sz="2700"/>
            </a:br>
            <a:r>
              <a:rPr b="0" lang="en-US" sz="2700" spc="-1" strike="noStrike">
                <a:solidFill>
                  <a:srgbClr val="00b050"/>
                </a:solidFill>
                <a:latin typeface="Lucida Sans Unicode"/>
              </a:rPr>
              <a:t>SOME OF THE COUNTRIES THAT FOUGHT WERE TURKEY, AUSTRALIA, CHINA AND MANY MO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b050"/>
                </a:solidFill>
                <a:latin typeface="Lucida Sans Unicode"/>
              </a:rPr>
              <a:t>IN ORDER THE COUNTRIES FROM BIGGEST TO SMLLEST A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b050"/>
                </a:solidFill>
                <a:latin typeface="Lucida Sans Unicode"/>
              </a:rPr>
              <a:t>AUSTRALIA, CHINA AND TURKEY</a:t>
            </a:r>
            <a:endParaRPr b="0" lang="en-US" sz="2700" spc="-1" strike="noStrike">
              <a:solidFill>
                <a:srgbClr val="000000"/>
              </a:solidFill>
              <a:latin typeface="Lucida Sans Unicode"/>
            </a:endParaRPr>
          </a:p>
        </p:txBody>
      </p:sp>
      <p:pic>
        <p:nvPicPr>
          <p:cNvPr id="38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856800"/>
            <a:ext cx="8329680" cy="5149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268200" y="6048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28760" y="12859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pic>
        <p:nvPicPr>
          <p:cNvPr id="389" name="Rectangle 3" descr=""/>
          <p:cNvPicPr/>
          <p:nvPr/>
        </p:nvPicPr>
        <p:blipFill>
          <a:blip r:embed="rId2"/>
          <a:stretch/>
        </p:blipFill>
        <p:spPr>
          <a:xfrm>
            <a:off x="1566720" y="122400"/>
            <a:ext cx="6156360" cy="530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04:31:50Z</dcterms:created>
  <dc:creator>Jason McBean</dc:creator>
  <dc:description/>
  <dc:language>en-US</dc:language>
  <cp:lastModifiedBy>Administrator</cp:lastModifiedBy>
  <dcterms:modified xsi:type="dcterms:W3CDTF">2009-06-04T03:46:57Z</dcterms:modified>
  <cp:revision>11</cp:revision>
  <dc:subject/>
  <dc:title>MATHS FRENZY ON CAMP</dc:title>
</cp:coreProperties>
</file>